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98407"/>
        <c:axId val="32591603"/>
      </c:barChart>
      <c:catAx>
        <c:axId val="39898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91603"/>
        <c:crosses val="autoZero"/>
        <c:auto val="1"/>
        <c:lblAlgn val="ctr"/>
        <c:lblOffset val="100"/>
        <c:noMultiLvlLbl val="0"/>
      </c:catAx>
      <c:valAx>
        <c:axId val="32591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98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4F8-910C-4905-8636-BBFC9122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D03-9B3D-461A-AF7F-78E31DA8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A06-5273-4572-884A-2E1CE8FE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33A-4C60-4432-9740-9E513CD9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373-38FB-4519-90D3-0B1BFAB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2CC-DEC8-4EA1-8411-AD3B844E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AF8-24B1-4B4C-9D80-E016B757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938-4D25-4C20-8C68-102283C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1AA-8989-4269-8498-261F46A2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04E-B11A-4EAC-83D3-C6BB9EC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11D-8724-47FE-BC07-9F89CA0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ACC-8A19-4F1B-AACA-D5BD6A6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BCD8-7CD7-4F92-90D0-BB7EE5B298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