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4596250"/>
        <c:axId val="72256626"/>
      </c:barChart>
      <c:catAx>
        <c:axId val="5459625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256626"/>
        <c:crosses val="autoZero"/>
        <c:auto val="1"/>
        <c:lblAlgn val="ctr"/>
        <c:lblOffset val="100"/>
        <c:noMultiLvlLbl val="0"/>
      </c:catAx>
      <c:valAx>
        <c:axId val="7225662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59625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F236-36DD-4C29-9A5B-1B1246A10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1E96-7198-40C6-AFFD-185AEB8DC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7CBD-78EC-46ED-9D75-9B4BEA3F1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3BE6-F07D-468C-B27C-47EB2914C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4622-A6AC-4F86-A8AE-BB0DE9846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3461-6305-4A6A-9877-82AD043A6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4C1C-677A-4057-9523-1B269AD87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A30D-BACE-4539-B946-BB3C36F07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7523-1E84-4769-B9B9-2E4463534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F3A6-55DE-434F-B132-7E8093B75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D447-06C1-4481-92EB-CFFE32DED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CF4C-54AE-4F0C-8AEF-F9E8CED78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D1F361-132A-4B3F-B33E-EBCD004BD96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