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09862"/>
        <c:axId val="49518760"/>
      </c:barChart>
      <c:catAx>
        <c:axId val="35109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8760"/>
        <c:crosses val="autoZero"/>
        <c:auto val="1"/>
        <c:lblAlgn val="ctr"/>
        <c:lblOffset val="100"/>
        <c:noMultiLvlLbl val="0"/>
      </c:catAx>
      <c:valAx>
        <c:axId val="49518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09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C0A-562E-425B-8D77-CDE10181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236-136A-4FB2-915F-25BB5E7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2D0-BB40-40F6-95B4-CD9AA4B0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F07-9C07-4314-BBE6-2F7A911C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877-9D1B-4024-9863-06AC286F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899-4A03-4716-A7B5-6E68E04E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4D5-93FA-4960-9FF4-2C9EDA27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FF2-042E-467F-80CD-3A132267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916-6B8D-4D42-8B1E-9390833A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D91-3304-494B-8890-7FE44C2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D10-7ADD-49B4-A4C0-B82142E8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A4F-577F-4BB6-9C56-46D45EF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7BF60-F19E-4DD7-B3F5-A5DC74FCA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