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68625"/>
        <c:axId val="40991583"/>
      </c:barChart>
      <c:catAx>
        <c:axId val="73068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91583"/>
        <c:crosses val="autoZero"/>
        <c:auto val="1"/>
        <c:lblAlgn val="ctr"/>
        <c:lblOffset val="100"/>
        <c:noMultiLvlLbl val="0"/>
      </c:catAx>
      <c:valAx>
        <c:axId val="409915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68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794-D0AE-49F2-972E-CF2496E1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1F7-D537-495C-A311-19F2D307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F5F-0B5B-472B-848C-1ECBEE3A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CAF-5FDA-45CF-9FC7-22D4709D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5B4-655B-41D7-8D3E-44B85931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16C-2EA3-46B8-9C16-E3E2E1F0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41D-4466-4D48-A625-2ED65AAD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2E8-AB7B-42F2-B849-2B980065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80E-D920-4252-B062-1533D275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0A0-9C5B-4FFA-B55D-679D8AC2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4EC-3E03-49E1-A2FC-6CF1DF7A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6F0-2FBE-43AC-A55D-35154C13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8D4D6-6144-4867-964C-F78A6E8572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