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856980"/>
        <c:axId val="45201974"/>
      </c:barChart>
      <c:catAx>
        <c:axId val="41856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01974"/>
        <c:crosses val="autoZero"/>
        <c:auto val="1"/>
        <c:lblAlgn val="ctr"/>
        <c:lblOffset val="100"/>
        <c:noMultiLvlLbl val="0"/>
      </c:catAx>
      <c:valAx>
        <c:axId val="452019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56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B05B-6E06-4015-9893-A32B3938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F9C4-7F03-491E-BA9F-13CCA86C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0C4F-9020-4AB9-9D16-B0F0175AD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1A9A-7433-494E-BC42-2E8AF440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B0DE-20C4-4153-9D07-5B824DFE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DCC4-EF8F-43F6-945B-974D007D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89C1-A3F7-4C89-B617-9250A431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9183-42B8-460D-9A46-142DB4C4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1A07-F18C-4D01-9DAE-E76EB07D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0796-B47F-48BC-B8AD-3A6E39E6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AC38-C616-4E74-BA1F-6257D85A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6C30-B23E-477A-B03C-ECF390D7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4BC21-2A28-42D0-B11B-934B5AD831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