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92240"/>
        <c:axId val="69029661"/>
      </c:barChart>
      <c:catAx>
        <c:axId val="68992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29661"/>
        <c:crosses val="autoZero"/>
        <c:auto val="1"/>
        <c:lblAlgn val="ctr"/>
        <c:lblOffset val="100"/>
        <c:noMultiLvlLbl val="0"/>
      </c:catAx>
      <c:valAx>
        <c:axId val="69029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92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9766-78B4-4FAF-84E9-0EB86F58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03F-D4FF-4CFD-850B-2EAF087D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2BB-3228-4131-902D-4B138F69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BF8-AE6E-485D-8A43-EC8EE73D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F83-ECB0-4222-B162-C6CBBB91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EE6-0517-4633-B86E-27C0277E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8E0-CA50-4442-B4A3-43A583C6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42D-C286-43AE-8805-032DBA4A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298-2B68-43CE-97F7-98CB4705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F04-D973-41B0-BF4B-D0BD51F2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EFA-1BFD-470C-AF5B-BF3D4747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144-0A26-4B34-BA26-D513CFA9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26393-FA79-4E85-8EAC-4CCC6FDE51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