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17571"/>
        <c:axId val="84494497"/>
      </c:barChart>
      <c:catAx>
        <c:axId val="28517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4497"/>
        <c:crosses val="autoZero"/>
        <c:auto val="1"/>
        <c:lblAlgn val="ctr"/>
        <c:lblOffset val="100"/>
        <c:noMultiLvlLbl val="0"/>
      </c:catAx>
      <c:valAx>
        <c:axId val="84494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17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06A-2D1A-431E-AE01-77BE34C5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22A-43E9-4832-B463-679EE2E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86D-5FDD-4C5E-A9AB-4CBAB50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25D-5A64-4B8B-8D42-4FF6AC20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043-A861-48D3-B74B-AD2F23D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603-9BBC-474D-A2AB-DAC0895B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BF0-BD37-4004-B168-2438ECB2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21A-CC60-4811-9A1B-71DF53B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0C2-AB25-4F89-A927-826611C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C95-ED85-459B-B754-3B4EE60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4D9-E05C-4020-A9D2-7EF16B07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E10-86C5-4451-A5BA-E905C8C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4C493-56E9-49F6-AD4D-F7F61C89AD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