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71069"/>
        <c:axId val="86125551"/>
      </c:barChart>
      <c:catAx>
        <c:axId val="64171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5551"/>
        <c:crosses val="autoZero"/>
        <c:auto val="1"/>
        <c:lblAlgn val="ctr"/>
        <c:lblOffset val="100"/>
        <c:noMultiLvlLbl val="0"/>
      </c:catAx>
      <c:valAx>
        <c:axId val="86125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71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2C9-28BD-4FC1-980E-48F97987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497-34F8-428C-A5EF-E188943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A8A-F0B9-450A-B414-4C884B36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622-9F81-47CB-A3AE-6F7D13C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070-A5C0-4867-9B05-B24B2293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6BC-B9FD-4BF6-8878-8ADEB23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5F9-532D-4F40-8A2E-0968B9A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196-4092-4B01-AF46-E9497C5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B88-0EA4-44B4-B9DF-DF8BF395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B91-F333-4F41-A037-5FFF422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12A-4DFA-4800-9E05-7F764D8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1F0-D437-4AD0-BEAE-B60E676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11009-2F41-40C2-B099-BEE603B9E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