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56680"/>
        <c:axId val="36187198"/>
      </c:barChart>
      <c:catAx>
        <c:axId val="43356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7198"/>
        <c:crosses val="autoZero"/>
        <c:auto val="1"/>
        <c:lblAlgn val="ctr"/>
        <c:lblOffset val="100"/>
        <c:noMultiLvlLbl val="0"/>
      </c:catAx>
      <c:valAx>
        <c:axId val="36187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56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643-48EA-48BD-9F6C-CA73532C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F0F-B33A-45AF-9C11-F45591E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58B-7304-49CB-B2BD-EF42BDE3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E41-578E-49A1-89F6-5D80BF4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709-E075-4DEF-B178-F278ACF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50F-CA6D-4F5F-9C5D-89A0E2D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9DF-8150-4F65-AA4B-D804413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C54-1BA1-41FA-A836-70E0496D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E7E-8493-45CA-B7CF-1026338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A2B-8F2D-458B-8B70-15C894F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B99-9D08-4CF3-8957-85FF912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340-419A-46B2-89F6-C5A9704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7DE26-42EF-4955-BECC-9EBD3337F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