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073935"/>
        <c:axId val="54017089"/>
      </c:barChart>
      <c:catAx>
        <c:axId val="680739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017089"/>
        <c:crosses val="autoZero"/>
        <c:auto val="1"/>
        <c:lblAlgn val="ctr"/>
        <c:lblOffset val="100"/>
        <c:noMultiLvlLbl val="0"/>
      </c:catAx>
      <c:valAx>
        <c:axId val="540170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0739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3A5C-5A00-404A-85E0-E6478F2E5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4A12-AD1D-4155-9BE2-E0501A44F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8D16-2C40-4D6C-B05E-60189EC6A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4E6D-49AD-4218-B626-B2C7EA33A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6A1E-A5A3-460C-B1ED-B9751375D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0E89-65C0-402B-BFD4-1469867EC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0C5F-5B1C-44DE-B811-8DB6B232B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DAF1-FCA7-456B-B52D-EC0687BE1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C972-4347-45CF-99A2-51F9CD024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E977-C89D-4C52-A7C0-86A3E3A58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5A18-1908-4053-A446-281AB8FA1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5B6D-788F-4D6E-B5A3-FA96E6839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E064AE-2DD1-4FAF-B5F0-56BD5A8D54D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