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62574"/>
        <c:axId val="54522564"/>
      </c:barChart>
      <c:catAx>
        <c:axId val="61462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22564"/>
        <c:crosses val="autoZero"/>
        <c:auto val="1"/>
        <c:lblAlgn val="ctr"/>
        <c:lblOffset val="100"/>
        <c:noMultiLvlLbl val="0"/>
      </c:catAx>
      <c:valAx>
        <c:axId val="54522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2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593-A89E-43CF-8C07-318A884F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BC4-D604-41AD-9F12-1508A9D4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18E-1D32-4558-BD20-DA32927C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ACD-012D-441E-B917-7B08C81D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8A1-70D7-4612-AC4E-7089AE2A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842-990A-4629-81CA-DD4143D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4E4-68E7-45D6-A969-EEFBB0B2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395-173F-4907-8BB3-FF5A4FBE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281-3419-49FD-ABF1-06563D0F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5C8-3394-46A4-9164-41BFB36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0BA-471F-493B-B6DD-B75B04B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A3F-CB29-4339-8B5E-DEE16E2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60249-EE62-4D4A-BA62-F39CCE2D38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