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51493"/>
        <c:axId val="58462796"/>
      </c:barChart>
      <c:catAx>
        <c:axId val="60451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62796"/>
        <c:crosses val="autoZero"/>
        <c:auto val="1"/>
        <c:lblAlgn val="ctr"/>
        <c:lblOffset val="100"/>
        <c:noMultiLvlLbl val="0"/>
      </c:catAx>
      <c:valAx>
        <c:axId val="58462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51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FA8-22A6-4C86-BC77-8D47F802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333E-5282-47E3-AB12-A685AAB1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C9C1-2926-46F4-9F74-FCEC19CA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F4D-0B00-4534-86C6-197CC612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E1FF-B53A-4FA7-92B8-452E4115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535-5242-4003-B029-7AA3E98B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3E17-0FA0-4BBB-BC77-797364C0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61A-9D2F-4A87-832A-369E1D9C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866-019C-497B-8201-F03EEF3B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7022-DF71-4356-AAC0-73A8F5B6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537E-8F28-4826-81EC-5CEC5FFA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A89-EFEB-4D89-94E0-D37AADEC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EFB70-FE46-4203-8C34-7721132880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