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493148"/>
        <c:axId val="75310385"/>
      </c:barChart>
      <c:catAx>
        <c:axId val="214931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310385"/>
        <c:crosses val="autoZero"/>
        <c:auto val="1"/>
        <c:lblAlgn val="ctr"/>
        <c:lblOffset val="100"/>
        <c:noMultiLvlLbl val="0"/>
      </c:catAx>
      <c:valAx>
        <c:axId val="753103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4931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455A-8F9F-433A-A7F3-4B34EBD55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357B-6296-41C5-9D21-65770B56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87EC-BF10-4AA6-9673-B72F07758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55C2-F5B5-46CF-9E67-53FF05538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8D28-68A0-44D5-9147-8114A7A4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667D-F3F9-43AD-9E55-14729885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604E-09D4-49DF-9296-780ED710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08F7-FABA-4B31-B355-36567BE7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9AAF-5893-4737-8AEE-B2831018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7307-90B7-47D4-9FA7-151BAF62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A8AA-8512-48AB-9344-6D32C1C5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10B9-4699-48D4-BA30-EEBEDA96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0FACE6-0482-4C8B-BE14-B20315EDA8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