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772908"/>
        <c:axId val="13019012"/>
      </c:barChart>
      <c:catAx>
        <c:axId val="257729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19012"/>
        <c:crosses val="autoZero"/>
        <c:auto val="1"/>
        <c:lblAlgn val="ctr"/>
        <c:lblOffset val="100"/>
        <c:noMultiLvlLbl val="0"/>
      </c:catAx>
      <c:valAx>
        <c:axId val="130190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729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6DFA-36F9-477D-92B1-7AE7C38F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77A8-60DD-412F-8915-D739CD3F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9F74-9E0D-48EC-898B-ECFFC23C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2964-EB06-4879-9A7C-54EF08AB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D033-EB91-4092-ABAD-DEB7F603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1A1D-A2AF-4AC2-A694-7BAC8132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1748-D8E6-4BC8-BF30-F6E6DDF2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8E9B-4929-4085-8344-2CC8FA32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F01-0E7B-4147-9CF0-46605B70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6FCD-220C-457C-B0E3-8411A947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1321-01C2-42F9-98B7-E0504A61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9E39-E150-4D44-A5BE-56BF2F78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DAFA5-D546-418F-B39E-9BD9DFBCF0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