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7744"/>
        <c:axId val="96089458"/>
      </c:barChart>
      <c:catAx>
        <c:axId val="4777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89458"/>
        <c:crosses val="autoZero"/>
        <c:auto val="1"/>
        <c:lblAlgn val="ctr"/>
        <c:lblOffset val="100"/>
        <c:noMultiLvlLbl val="0"/>
      </c:catAx>
      <c:valAx>
        <c:axId val="96089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6AD-D3F9-494A-8246-9F0D13CF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2B7-9F31-416B-B8D8-650FA6B9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D7D-F89D-45FC-A735-459281BD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E52-E748-426E-BCA2-1526E70F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1EA-96AC-46B4-867C-075536BC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796-9DC1-4BE1-A893-66264CC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F0D-77F8-4935-89E9-75296C1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637-D708-4527-A078-4047ED03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31E-1F10-4E5E-9988-E2A67AD2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7F9-8589-49C6-A0B0-CC7A873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104-1961-40B9-89F6-291C550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CBF-98AD-4045-81DE-BD7DC57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3A897-64AA-4D90-B0F7-E4234E7436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